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3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gif" ContentType="image/gif"/>
  <Override PartName="/ppt/media/image2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F38B-3995-409A-8D21-00EA7A0C9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9796-19A2-412B-B74F-A8D629D2C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340E37-1552-4AA4-9620-3964BB0FA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C8B1CE-CB8B-4CAC-A6B2-F3C821171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59878B-2B27-4076-9E97-ACBF9E9C0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3FC3C3-5284-4BC8-9B2A-9BC7CF13E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F37FE0-28BE-4719-9A50-7022D290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019270-E416-4F0C-A560-1545B586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376DBC-ED88-46F4-8FB0-2418E0C6A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243BBE-B91D-490B-9624-C377745FB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073742-6E82-4D14-A76F-863508C50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A429E3-EEF7-4F29-92CD-D2B01930C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AD98-248E-4FA0-B50F-6B93B8916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1344B1-4933-4EF3-BFDD-EEE29ED38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562897-6E92-41FB-B1BC-1D81A4FC6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261752-EECC-490D-ADF3-75FF6AA7C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F2E994-F135-4CA9-85D9-A201B2030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B28A5F-1D96-4AEB-A632-CE2211C91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C6AD22-219C-4E33-956F-30BEF217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41D017-E975-40C3-ACD2-E0F7D8542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681BD4-0A10-46BC-AD3D-C448471E8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D87BF8-A36E-4CB4-A312-FDD03B58C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F141A8-45FF-4FE4-B418-1C96C59BE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9ECF-0928-481F-A973-A0C36E6F0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407D9C-9121-44BA-A7BA-160088246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1EA080-A3A9-47C9-A6BC-894C248D2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BCE1E5-C462-42D1-974A-A903F1607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2DB071-C82E-4E84-A95F-05B050C33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BD57F5-42D2-4F40-8729-EAAC6F04C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D037EA-C4A4-4CF6-9B40-2ADE526FD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0485AC-B13A-4D78-B12E-FC073CBB3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B85393-3142-4010-9123-3B1165E7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B68C04-6FE6-40AB-AACC-51D46262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538A3D-050A-446D-BEAE-A259AA78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C26AC-7DB2-4CAF-B2AF-640737A90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0E8463-6920-495F-B72A-069E0F462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ACF5AB-7BE6-4695-9801-E92225B8B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F8C8E2-2969-47BB-8BF8-24DBEC203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D190A5-1F7C-4C0A-8B98-7E8A2335F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83D0C3-F172-44AD-AF86-45AD896DF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FCBD4F-E1B1-4A9E-86BE-0A53C4696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24CF42-115E-4923-99DA-2E32494CF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876E10-D3C1-4668-8418-AB157FBEE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E70E9F-1EFD-47BD-8A80-66F17E197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5047DF-FBAB-48E3-BC12-2F2529B7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BD840-FD80-4A9F-AB88-E09A611C7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2E2009-4054-4780-B579-2ADF758D3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72353B-4425-49FC-B59F-C6713338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E31C20-410C-465B-9F48-54FD497CD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A56207-E06D-4B10-B575-9D25D614E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45B916-DBF0-4802-B9BA-71073D9E2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362E06-0EEB-4333-854A-39D0FF09F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75CE95-D71C-4298-BFDB-B39DF9856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221DCE-9FC8-4A41-8F36-A3D1962ED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552E1A-D863-4268-9E20-2D55E53EB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77C5FC-1083-4721-8A0C-2E18BA95E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1F96C-1339-4CEE-B4FC-60546E597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C7FD88-821B-4C6E-8F73-DF633C774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07E397-C2FC-44E1-A357-13D1950E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046330-EAFA-4129-816C-F07B4345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90C35B-8B5E-4E6E-9426-7622A60D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C2D026-CF0C-46F9-8799-96AB633A5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27DB06-4DBC-4240-8D07-2AD243718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EB1CB8-DBAB-45FE-B788-80A4653ED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315E0-B702-44FC-9FD1-74894CC66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CF2CC-F1D4-44CD-BCCF-FD5B49F58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1C82B-E579-4410-B364-2CBDA2F43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E3678-595E-4B66-A684-802F66431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FD4B-4F05-4F7E-ADE0-010FE36D1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2560B-DD5D-4505-BCCC-84B89F305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A9E18-E849-4BF8-ACE3-1ABBA96C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C4D9D-6094-40F4-A023-BB37520A9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9EDF0-87A2-4318-B869-041CD7469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C8729-5856-421F-B58E-B5213D165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C7F60-7DB6-4F1F-ABA2-2DC46DAB0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30EFB-3892-49C1-B7DD-1967D1B7F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03172-B71C-4347-A926-79E005C99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50AA2-D813-40EA-88A3-06D778A4F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998A1-CE01-4CFA-ACC9-998B78CF5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7701-3518-4F39-B85A-062A73DA1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B291D-B489-4666-9A3A-F3CB02666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7C6FC-D803-4464-8879-DFD08A0B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7F991-BF66-484D-9525-8449AC06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41917-C52E-4378-B2FC-5218ABA6B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DE7A0-99A9-43BC-9F13-D968CE09A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8370D-D7ED-404C-92B5-4877DD6ED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5CCC2-9B83-4466-B39D-06FED69BD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551DB-4F03-4110-9C9F-CAA5C6E48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F221A-D8CF-4441-81DF-D873752AD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C6272-7ADC-40DA-8E7C-EAB03B9D0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F92B-4ECC-4044-99B3-B33B3D270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1842B-2D4B-4B0F-A06D-B88CF7BC4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BA62C-E3F4-4AB4-B762-D7631272A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93A01-CF76-40D1-BA54-A529B6FD0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D3F35-8D15-446B-BDB1-6DF8811D9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F7CBD-D86A-4F0D-A243-CDC8BE3A5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53C8E-DC4B-4820-9F59-24C4A0C6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319DF-2090-468A-96D6-6AD6B50C2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60F4D-6BB7-4B6C-8690-DF05CA8A6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39C09-F2CD-4D93-99AE-91871BF51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6D403D-9030-414D-85DB-926DE1F40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B3E6-8A1C-44D6-97A5-593A57CF9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7754F-83BB-4185-A6EB-EAACA48CB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7A070B-FAFA-4B33-BBA4-3B804A67C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F2401-033D-49E2-8256-AC10DC480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F77F52-AB58-425E-9BC8-9E953C865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C6529A-95A1-4B50-887D-7C8293313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5A8C7-6AC5-4F48-87D8-3E064C36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3D128-11FE-42A1-9877-42DC95402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4B8B5F-BF95-4089-8710-BB957373E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02EEB6-C10C-4334-9DC8-D768BD68B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A12D7E-230F-43C2-9A18-1198A1E19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CC8E-9CFC-498B-8FB8-052446505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F3E37A-2ECF-4D51-94CB-9B8C9D35D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F9E4B2-6260-404D-A279-3FA075481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FA5A57-BE17-4754-AACA-EF5873A3F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49ACCD-8529-4A59-AC72-29EC7A1B1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5C094B-CD17-4F15-876D-36E44B67B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D06019-5D55-4248-BC28-57EF0B358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19A387-8EE5-4A35-8EF8-352179C59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5AC4AC-F940-439F-8D69-764FFD74E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5CDE84-35BC-4047-BDFE-FCAD66030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199CE3-9F7C-40D8-ABA9-C8EE69FB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D1B9-C38B-46EA-8AB8-45CC1A341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0EC4E-75E0-401C-BCFB-D6BE47AB1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BEE1E3-E94E-4C80-B4F7-58BF12C7E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89B9C8-090A-464A-B8C2-78647E9B6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C31334-F81E-4352-91FA-AD2C0F773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2FEB4A-356D-40AA-ACF1-5736D5047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76953E-76F3-4164-A9D8-FBCA7EAB0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258E51-3D06-49E0-BD8E-F59B10041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E65B0B-E0A1-4EAD-9A0F-C8AF6AB0A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EF3DA4-1147-4CED-9D9E-CBA20467D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07F596-CDE7-48C0-A6EB-0EB9D69E9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B3CB-FD3F-4A18-B019-BE710417F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2250EF-0AE3-490C-B633-667CC0B4B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712276-28F7-4AEF-9A51-7B9B3D70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1BD6A6-2705-423C-BD49-2C19A9852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689935-7212-4D19-95B8-AF6D5DEC8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6E7CFC-332F-4804-B290-4FFAB0462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9B9B26-6704-4B2C-8801-2D88AA787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307596-D5BD-4FB2-8247-8B67E4C8F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22B825-DE67-472E-AF26-443FB077E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3D2353-6F9A-4773-97C2-6E8312104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72A739-21F6-4D9B-9381-6393E127C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2828-83FA-47C9-85C5-DED05CC4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E20FA0-4CCA-4551-8A5F-E4C255AA5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B199D8-4ED8-4EB8-8B1F-2915EC63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C6B9E9-50BB-4FE5-A2D9-E7FF218BC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EC1A62-BA5F-4B04-9482-1D4B0318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96A634-1728-4794-A79B-8A0978CF2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27D06D-EBD0-4000-B5E6-F2F446643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2A6A12-51A0-4AF6-8420-3B92393BB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F8230C-7BFB-44AA-BEA2-DAF84CB9D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56E567-1A01-4EB8-8040-7BD7A7A37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366FA4-1B48-4220-9512-C7B605862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E17385-BFAA-4C79-8B06-AC018663CB4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1F67B1-468A-4F0C-9910-620F0CC1E93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9CD616-8E7E-4551-B117-AA982207AF2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66185D-CC00-4EE0-9764-8E9AB324776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B20121-6B49-487B-9F7D-E17A17BEFB6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322DE-5E2B-4AE2-AEDA-EB217A3883A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EFF4CE-1119-41C6-A2AC-C08F1E39069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6FE81E-8020-41EE-860D-F7A548CAE2E9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7F6471-4E12-478E-8DB5-B84B3BE257B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91E8B5-EBDD-44BE-A84B-2A62083D449D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A2349A-56A0-41D9-8BBA-16959B4FC73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0257A2-DCE1-4B29-B2EA-82B74AD778B9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15BDF4-C1D9-4597-A06A-6EC8B8FDC03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0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6.png"/><Relationship Id="rId4" Type="http://schemas.openxmlformats.org/officeDocument/2006/relationships/image" Target="../media/image17.gif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矩形 19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11111111111111111111111111111111111111111111111111111111111111111111111111111111111111111111111111111111111111111111111111111111111111111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图片 24" descr="小花.png"/>
          <p:cNvPicPr/>
          <p:nvPr/>
        </p:nvPicPr>
        <p:blipFill>
          <a:blip r:embed="rId1"/>
          <a:stretch/>
        </p:blipFill>
        <p:spPr>
          <a:xfrm rot="1153200">
            <a:off x="7737120" y="5291280"/>
            <a:ext cx="1009800" cy="988920"/>
          </a:xfrm>
          <a:prstGeom prst="rect">
            <a:avLst/>
          </a:prstGeom>
          <a:ln w="0">
            <a:noFill/>
          </a:ln>
        </p:spPr>
      </p:pic>
      <p:pic>
        <p:nvPicPr>
          <p:cNvPr id="535" name="图片 25" descr="中间花.png"/>
          <p:cNvPicPr/>
          <p:nvPr/>
        </p:nvPicPr>
        <p:blipFill>
          <a:blip r:embed="rId2"/>
          <a:stretch/>
        </p:blipFill>
        <p:spPr>
          <a:xfrm>
            <a:off x="3103560" y="5446800"/>
            <a:ext cx="912960" cy="72216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39" descr="구름"/>
          <p:cNvPicPr/>
          <p:nvPr/>
        </p:nvPicPr>
        <p:blipFill>
          <a:blip r:embed="rId3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40" descr="구름"/>
          <p:cNvPicPr/>
          <p:nvPr/>
        </p:nvPicPr>
        <p:blipFill>
          <a:blip r:embed="rId4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70" descr="蝴蝶.png"/>
          <p:cNvPicPr/>
          <p:nvPr/>
        </p:nvPicPr>
        <p:blipFill>
          <a:blip r:embed="rId5"/>
          <a:stretch/>
        </p:blipFill>
        <p:spPr>
          <a:xfrm flipH="1" rot="18291600">
            <a:off x="6591960" y="3555000"/>
            <a:ext cx="1019160" cy="1103040"/>
          </a:xfrm>
          <a:prstGeom prst="rect">
            <a:avLst/>
          </a:prstGeom>
          <a:ln w="0">
            <a:noFill/>
          </a:ln>
        </p:spPr>
      </p:pic>
      <p:pic>
        <p:nvPicPr>
          <p:cNvPr id="539" name="文本框 22" descr=""/>
          <p:cNvPicPr/>
          <p:nvPr/>
        </p:nvPicPr>
        <p:blipFill>
          <a:blip r:embed="rId6"/>
          <a:stretch/>
        </p:blipFill>
        <p:spPr>
          <a:xfrm>
            <a:off x="2800440" y="4502160"/>
            <a:ext cx="6343560" cy="744480"/>
          </a:xfrm>
          <a:prstGeom prst="rect">
            <a:avLst/>
          </a:prstGeom>
          <a:ln w="0">
            <a:noFill/>
          </a:ln>
        </p:spPr>
      </p:pic>
      <p:pic>
        <p:nvPicPr>
          <p:cNvPr id="540" name="AutoShape 508" descr=""/>
          <p:cNvPicPr/>
          <p:nvPr/>
        </p:nvPicPr>
        <p:blipFill>
          <a:blip r:embed="rId7"/>
          <a:stretch/>
        </p:blipFill>
        <p:spPr>
          <a:xfrm>
            <a:off x="495360" y="1060560"/>
            <a:ext cx="8153280" cy="2165400"/>
          </a:xfrm>
          <a:prstGeom prst="rect">
            <a:avLst/>
          </a:prstGeom>
          <a:ln w="0">
            <a:noFill/>
          </a:ln>
        </p:spPr>
      </p:pic>
      <p:sp>
        <p:nvSpPr>
          <p:cNvPr id="541" name="同侧圆角矩形 26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6" y="0"/>
                </a:lnTo>
                <a:cubicBezTo>
                  <a:pt x="8096775" y="0"/>
                  <a:pt x="8153399" y="56624"/>
                  <a:pt x="8153399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Box 3"/>
          <p:cNvSpPr/>
          <p:nvPr/>
        </p:nvSpPr>
        <p:spPr>
          <a:xfrm>
            <a:off x="495360" y="1106640"/>
            <a:ext cx="8385120" cy="13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Unit 2 My Country an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English-speaking Count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4"/>
          <p:cNvSpPr/>
          <p:nvPr/>
        </p:nvSpPr>
        <p:spPr>
          <a:xfrm>
            <a:off x="3521160" y="2644920"/>
            <a:ext cx="272232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JJ   </a:t>
            </a:r>
            <a:r>
              <a:rPr b="1" lang="zh-CN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五年级上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AutoShape 508" descr=""/>
          <p:cNvPicPr/>
          <p:nvPr/>
        </p:nvPicPr>
        <p:blipFill>
          <a:blip r:embed="rId8"/>
          <a:stretch/>
        </p:blipFill>
        <p:spPr>
          <a:xfrm>
            <a:off x="457200" y="1022400"/>
            <a:ext cx="8229600" cy="224136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50" descr="나뭇잎2"/>
          <p:cNvPicPr/>
          <p:nvPr/>
        </p:nvPicPr>
        <p:blipFill>
          <a:blip r:embed="rId9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sp>
        <p:nvSpPr>
          <p:cNvPr id="546" name="椭圆 31"/>
          <p:cNvSpPr/>
          <p:nvPr/>
        </p:nvSpPr>
        <p:spPr>
          <a:xfrm>
            <a:off x="328680" y="133524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椭圆 32"/>
          <p:cNvSpPr/>
          <p:nvPr/>
        </p:nvSpPr>
        <p:spPr>
          <a:xfrm>
            <a:off x="328680" y="1976400"/>
            <a:ext cx="334800" cy="33516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椭圆 33"/>
          <p:cNvSpPr/>
          <p:nvPr/>
        </p:nvSpPr>
        <p:spPr>
          <a:xfrm>
            <a:off x="328680" y="261792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椭圆 34"/>
          <p:cNvSpPr/>
          <p:nvPr/>
        </p:nvSpPr>
        <p:spPr>
          <a:xfrm>
            <a:off x="8480520" y="133524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椭圆 35"/>
          <p:cNvSpPr/>
          <p:nvPr/>
        </p:nvSpPr>
        <p:spPr>
          <a:xfrm>
            <a:off x="8480520" y="1976400"/>
            <a:ext cx="334800" cy="33516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椭圆 36"/>
          <p:cNvSpPr/>
          <p:nvPr/>
        </p:nvSpPr>
        <p:spPr>
          <a:xfrm>
            <a:off x="8480520" y="261792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629" name="文本框 17"/>
          <p:cNvSpPr/>
          <p:nvPr/>
        </p:nvSpPr>
        <p:spPr>
          <a:xfrm>
            <a:off x="2930400" y="1501920"/>
            <a:ext cx="6105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What is the capital city of China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Li Ming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李明，中国的首都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圆角矩形 18"/>
          <p:cNvSpPr/>
          <p:nvPr/>
        </p:nvSpPr>
        <p:spPr>
          <a:xfrm>
            <a:off x="1041480" y="1730520"/>
            <a:ext cx="177804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文本框 19"/>
          <p:cNvSpPr/>
          <p:nvPr/>
        </p:nvSpPr>
        <p:spPr>
          <a:xfrm>
            <a:off x="1300320" y="1711440"/>
            <a:ext cx="151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图片 9" descr="book.gif"/>
          <p:cNvPicPr/>
          <p:nvPr/>
        </p:nvPicPr>
        <p:blipFill>
          <a:blip r:embed="rId2"/>
          <a:stretch/>
        </p:blipFill>
        <p:spPr>
          <a:xfrm>
            <a:off x="239760" y="1616040"/>
            <a:ext cx="1087560" cy="666720"/>
          </a:xfrm>
          <a:prstGeom prst="rect">
            <a:avLst/>
          </a:prstGeom>
          <a:ln w="0">
            <a:noFill/>
          </a:ln>
        </p:spPr>
      </p:pic>
      <p:sp>
        <p:nvSpPr>
          <p:cNvPr id="635" name="矩形 1"/>
          <p:cNvSpPr/>
          <p:nvPr/>
        </p:nvSpPr>
        <p:spPr>
          <a:xfrm>
            <a:off x="1262160" y="3743280"/>
            <a:ext cx="6926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短语中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ity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可以省略，直接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 capital of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如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 capital city of China /the capital of China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中国的首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矩形 25"/>
          <p:cNvSpPr/>
          <p:nvPr/>
        </p:nvSpPr>
        <p:spPr>
          <a:xfrm>
            <a:off x="1195560" y="3121200"/>
            <a:ext cx="753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the capital city of...“……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的首都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638" name="TextBox 1"/>
          <p:cNvSpPr/>
          <p:nvPr/>
        </p:nvSpPr>
        <p:spPr>
          <a:xfrm>
            <a:off x="1212840" y="1668600"/>
            <a:ext cx="497196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询问国家首都的问句及答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Box 1"/>
          <p:cNvSpPr/>
          <p:nvPr/>
        </p:nvSpPr>
        <p:spPr>
          <a:xfrm>
            <a:off x="1212840" y="2322360"/>
            <a:ext cx="7391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问句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at is the capital city of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+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国家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答语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.. is the capital city of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国家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 capital city of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+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国家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矩形 16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文本框 8" descr=""/>
          <p:cNvPicPr/>
          <p:nvPr/>
        </p:nvPicPr>
        <p:blipFill>
          <a:blip r:embed="rId1"/>
          <a:stretch/>
        </p:blipFill>
        <p:spPr>
          <a:xfrm>
            <a:off x="1662120" y="184320"/>
            <a:ext cx="6580080" cy="714240"/>
          </a:xfrm>
          <a:prstGeom prst="rect">
            <a:avLst/>
          </a:prstGeom>
          <a:ln w="0">
            <a:noFill/>
          </a:ln>
        </p:spPr>
      </p:pic>
      <p:grpSp>
        <p:nvGrpSpPr>
          <p:cNvPr id="643" name="组合 1"/>
          <p:cNvGrpSpPr/>
          <p:nvPr/>
        </p:nvGrpSpPr>
        <p:grpSpPr>
          <a:xfrm>
            <a:off x="1309680" y="1380960"/>
            <a:ext cx="6523200" cy="4096080"/>
            <a:chOff x="1309680" y="1380960"/>
            <a:chExt cx="6523200" cy="4096080"/>
          </a:xfrm>
        </p:grpSpPr>
        <p:pic>
          <p:nvPicPr>
            <p:cNvPr id="644" name="Picture 14" descr=""/>
            <p:cNvPicPr/>
            <p:nvPr/>
          </p:nvPicPr>
          <p:blipFill>
            <a:blip r:embed="rId2"/>
            <a:stretch/>
          </p:blipFill>
          <p:spPr>
            <a:xfrm>
              <a:off x="1309680" y="1380960"/>
              <a:ext cx="6523200" cy="409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5" name="Picture 15" descr=""/>
            <p:cNvPicPr/>
            <p:nvPr/>
          </p:nvPicPr>
          <p:blipFill>
            <a:blip r:embed="rId3"/>
            <a:stretch/>
          </p:blipFill>
          <p:spPr>
            <a:xfrm>
              <a:off x="5809320" y="4845240"/>
              <a:ext cx="1890000" cy="6318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文本框 8" descr=""/>
          <p:cNvPicPr/>
          <p:nvPr/>
        </p:nvPicPr>
        <p:blipFill>
          <a:blip r:embed="rId1"/>
          <a:stretch/>
        </p:blipFill>
        <p:spPr>
          <a:xfrm>
            <a:off x="2836800" y="101520"/>
            <a:ext cx="4041720" cy="849240"/>
          </a:xfrm>
          <a:prstGeom prst="rect">
            <a:avLst/>
          </a:prstGeom>
          <a:ln w="0">
            <a:noFill/>
          </a:ln>
        </p:spPr>
      </p:pic>
      <p:grpSp>
        <p:nvGrpSpPr>
          <p:cNvPr id="647" name="组合 1"/>
          <p:cNvGrpSpPr/>
          <p:nvPr/>
        </p:nvGrpSpPr>
        <p:grpSpPr>
          <a:xfrm>
            <a:off x="846000" y="1411200"/>
            <a:ext cx="7807320" cy="4303800"/>
            <a:chOff x="846000" y="1411200"/>
            <a:chExt cx="7807320" cy="4303800"/>
          </a:xfrm>
        </p:grpSpPr>
        <p:pic>
          <p:nvPicPr>
            <p:cNvPr id="648" name="Picture 12" descr=""/>
            <p:cNvPicPr/>
            <p:nvPr/>
          </p:nvPicPr>
          <p:blipFill>
            <a:blip r:embed="rId2"/>
            <a:stretch/>
          </p:blipFill>
          <p:spPr>
            <a:xfrm>
              <a:off x="846000" y="1411200"/>
              <a:ext cx="7807320" cy="430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9" name="Picture 13" descr=""/>
            <p:cNvPicPr/>
            <p:nvPr/>
          </p:nvPicPr>
          <p:blipFill>
            <a:blip r:embed="rId3"/>
            <a:stretch/>
          </p:blipFill>
          <p:spPr>
            <a:xfrm>
              <a:off x="6510600" y="5500440"/>
              <a:ext cx="1992600" cy="21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0" name="TextBox 14"/>
          <p:cNvSpPr/>
          <p:nvPr/>
        </p:nvSpPr>
        <p:spPr>
          <a:xfrm>
            <a:off x="4821120" y="2200320"/>
            <a:ext cx="11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Box 15"/>
          <p:cNvSpPr/>
          <p:nvPr/>
        </p:nvSpPr>
        <p:spPr>
          <a:xfrm>
            <a:off x="4973760" y="2690640"/>
            <a:ext cx="11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h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Box 17"/>
          <p:cNvSpPr/>
          <p:nvPr/>
        </p:nvSpPr>
        <p:spPr>
          <a:xfrm>
            <a:off x="7329600" y="2664000"/>
            <a:ext cx="11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p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Box 18"/>
          <p:cNvSpPr/>
          <p:nvPr/>
        </p:nvSpPr>
        <p:spPr>
          <a:xfrm>
            <a:off x="5029200" y="4849920"/>
            <a:ext cx="11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yel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文本框 8" descr=""/>
          <p:cNvPicPr/>
          <p:nvPr/>
        </p:nvPicPr>
        <p:blipFill>
          <a:blip r:embed="rId1"/>
          <a:stretch/>
        </p:blipFill>
        <p:spPr>
          <a:xfrm>
            <a:off x="2836800" y="101520"/>
            <a:ext cx="4041720" cy="84924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12" descr=""/>
          <p:cNvPicPr/>
          <p:nvPr/>
        </p:nvPicPr>
        <p:blipFill>
          <a:blip r:embed="rId2"/>
          <a:stretch/>
        </p:blipFill>
        <p:spPr>
          <a:xfrm>
            <a:off x="1351080" y="1706400"/>
            <a:ext cx="2333520" cy="151452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13" descr=""/>
          <p:cNvPicPr/>
          <p:nvPr/>
        </p:nvPicPr>
        <p:blipFill>
          <a:blip r:embed="rId3"/>
          <a:stretch/>
        </p:blipFill>
        <p:spPr>
          <a:xfrm>
            <a:off x="5275440" y="1733400"/>
            <a:ext cx="2333520" cy="151452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14" descr=""/>
          <p:cNvPicPr/>
          <p:nvPr/>
        </p:nvPicPr>
        <p:blipFill>
          <a:blip r:embed="rId4"/>
          <a:stretch/>
        </p:blipFill>
        <p:spPr>
          <a:xfrm>
            <a:off x="1400040" y="3811680"/>
            <a:ext cx="2343240" cy="150480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15" descr=""/>
          <p:cNvPicPr/>
          <p:nvPr/>
        </p:nvPicPr>
        <p:blipFill>
          <a:blip r:embed="rId5"/>
          <a:stretch/>
        </p:blipFill>
        <p:spPr>
          <a:xfrm>
            <a:off x="5311800" y="3849840"/>
            <a:ext cx="2286000" cy="1457280"/>
          </a:xfrm>
          <a:prstGeom prst="rect">
            <a:avLst/>
          </a:prstGeom>
          <a:ln w="0">
            <a:noFill/>
          </a:ln>
        </p:spPr>
      </p:pic>
      <p:sp>
        <p:nvSpPr>
          <p:cNvPr id="659" name="矩形 1"/>
          <p:cNvSpPr/>
          <p:nvPr/>
        </p:nvSpPr>
        <p:spPr>
          <a:xfrm>
            <a:off x="1182600" y="108756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Talk more about Chin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矩形 2"/>
          <p:cNvSpPr/>
          <p:nvPr/>
        </p:nvSpPr>
        <p:spPr>
          <a:xfrm>
            <a:off x="914400" y="3254400"/>
            <a:ext cx="31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rra Cotta Warri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矩形 3"/>
          <p:cNvSpPr/>
          <p:nvPr/>
        </p:nvSpPr>
        <p:spPr>
          <a:xfrm>
            <a:off x="5027760" y="3274920"/>
            <a:ext cx="31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Bund, Shangha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矩形 4"/>
          <p:cNvSpPr/>
          <p:nvPr/>
        </p:nvSpPr>
        <p:spPr>
          <a:xfrm>
            <a:off x="1551960" y="5433840"/>
            <a:ext cx="201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tala Pal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矩形 5"/>
          <p:cNvSpPr/>
          <p:nvPr/>
        </p:nvSpPr>
        <p:spPr>
          <a:xfrm>
            <a:off x="5465160" y="538812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gao Cav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665" name="TextBox 1"/>
          <p:cNvSpPr/>
          <p:nvPr/>
        </p:nvSpPr>
        <p:spPr>
          <a:xfrm>
            <a:off x="1098720" y="1398600"/>
            <a:ext cx="7534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、单项选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 We _________ Chine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say            B. talk           C. sp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 It’ s the Palace Museum . Can you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speak                   B. tell                C. s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Box 2"/>
          <p:cNvSpPr/>
          <p:nvPr/>
        </p:nvSpPr>
        <p:spPr>
          <a:xfrm>
            <a:off x="2525760" y="239724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7" name="组合 22"/>
          <p:cNvGrpSpPr/>
          <p:nvPr/>
        </p:nvGrpSpPr>
        <p:grpSpPr>
          <a:xfrm>
            <a:off x="7167240" y="1125360"/>
            <a:ext cx="1813320" cy="368640"/>
            <a:chOff x="7167240" y="1125360"/>
            <a:chExt cx="1813320" cy="368640"/>
          </a:xfrm>
        </p:grpSpPr>
        <p:sp>
          <p:nvSpPr>
            <p:cNvPr id="668" name="矩形 21"/>
            <p:cNvSpPr/>
            <p:nvPr/>
          </p:nvSpPr>
          <p:spPr>
            <a:xfrm>
              <a:off x="7167240" y="1142640"/>
              <a:ext cx="1813320" cy="35136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文本框 17"/>
            <p:cNvSpPr/>
            <p:nvPr/>
          </p:nvSpPr>
          <p:spPr>
            <a:xfrm>
              <a:off x="7224120" y="11253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0" name="TextBox 2"/>
          <p:cNvSpPr/>
          <p:nvPr/>
        </p:nvSpPr>
        <p:spPr>
          <a:xfrm>
            <a:off x="6431040" y="384804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1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672" name="TextBox 1"/>
          <p:cNvSpPr/>
          <p:nvPr/>
        </p:nvSpPr>
        <p:spPr>
          <a:xfrm>
            <a:off x="1071720" y="1508040"/>
            <a:ext cx="7534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hina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适当形式填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re you from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es. I am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3" name="组合 22"/>
          <p:cNvGrpSpPr/>
          <p:nvPr/>
        </p:nvGrpSpPr>
        <p:grpSpPr>
          <a:xfrm>
            <a:off x="7167240" y="1125360"/>
            <a:ext cx="1813320" cy="368640"/>
            <a:chOff x="7167240" y="1125360"/>
            <a:chExt cx="1813320" cy="368640"/>
          </a:xfrm>
        </p:grpSpPr>
        <p:sp>
          <p:nvSpPr>
            <p:cNvPr id="674" name="矩形 21"/>
            <p:cNvSpPr/>
            <p:nvPr/>
          </p:nvSpPr>
          <p:spPr>
            <a:xfrm>
              <a:off x="7167240" y="1142640"/>
              <a:ext cx="1813320" cy="35136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文本框 17"/>
            <p:cNvSpPr/>
            <p:nvPr/>
          </p:nvSpPr>
          <p:spPr>
            <a:xfrm>
              <a:off x="7224120" y="11253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6" name="TextBox 1"/>
          <p:cNvSpPr/>
          <p:nvPr/>
        </p:nvSpPr>
        <p:spPr>
          <a:xfrm>
            <a:off x="2651040" y="3197160"/>
            <a:ext cx="14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hin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Box 2"/>
          <p:cNvSpPr/>
          <p:nvPr/>
        </p:nvSpPr>
        <p:spPr>
          <a:xfrm>
            <a:off x="3241800" y="2481120"/>
            <a:ext cx="109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h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Box 4"/>
          <p:cNvSpPr/>
          <p:nvPr/>
        </p:nvSpPr>
        <p:spPr>
          <a:xfrm>
            <a:off x="1400040" y="3879720"/>
            <a:ext cx="6783480" cy="15195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点拨</a:t>
            </a:r>
            <a:r>
              <a:rPr b="1" lang="zh-CN" sz="2400" spc="-1" strike="noStrike">
                <a:solidFill>
                  <a:srgbClr val="ff0000"/>
                </a:solidFill>
                <a:latin typeface="Adobe 黑体 Std R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矩形 18"/>
          <p:cNvSpPr/>
          <p:nvPr/>
        </p:nvSpPr>
        <p:spPr>
          <a:xfrm>
            <a:off x="2227320" y="3879720"/>
            <a:ext cx="59418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be from “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来自于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……”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后面跟地点名词，所以填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China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；答语意为“是的，我是中国人。”所以填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Chinese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0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681" name="TextBox 1"/>
          <p:cNvSpPr/>
          <p:nvPr/>
        </p:nvSpPr>
        <p:spPr>
          <a:xfrm>
            <a:off x="900000" y="1646280"/>
            <a:ext cx="8113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三、按要求完成句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Beij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is the capital city of  China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对画线部分提问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  capital city of Chin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2" name="组合 22"/>
          <p:cNvGrpSpPr/>
          <p:nvPr/>
        </p:nvGrpSpPr>
        <p:grpSpPr>
          <a:xfrm>
            <a:off x="7235640" y="1125360"/>
            <a:ext cx="1812960" cy="368640"/>
            <a:chOff x="7235640" y="1125360"/>
            <a:chExt cx="1812960" cy="368640"/>
          </a:xfrm>
        </p:grpSpPr>
        <p:sp>
          <p:nvSpPr>
            <p:cNvPr id="683" name="矩形 23"/>
            <p:cNvSpPr/>
            <p:nvPr/>
          </p:nvSpPr>
          <p:spPr>
            <a:xfrm>
              <a:off x="7235640" y="1142640"/>
              <a:ext cx="1812960" cy="35136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文本框 17"/>
            <p:cNvSpPr/>
            <p:nvPr/>
          </p:nvSpPr>
          <p:spPr>
            <a:xfrm>
              <a:off x="7292520" y="11253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TextBox 1"/>
          <p:cNvSpPr/>
          <p:nvPr/>
        </p:nvSpPr>
        <p:spPr>
          <a:xfrm>
            <a:off x="950760" y="3332160"/>
            <a:ext cx="9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Box 2"/>
          <p:cNvSpPr/>
          <p:nvPr/>
        </p:nvSpPr>
        <p:spPr>
          <a:xfrm>
            <a:off x="2101680" y="3343320"/>
            <a:ext cx="73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688" name="TextBox 3"/>
          <p:cNvSpPr/>
          <p:nvPr/>
        </p:nvSpPr>
        <p:spPr>
          <a:xfrm>
            <a:off x="633240" y="1486080"/>
            <a:ext cx="801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本节课我们学习了以下知识，请同学们一定加强巩固，以便能和同学们进行灵活交流哦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Box 3"/>
          <p:cNvSpPr/>
          <p:nvPr/>
        </p:nvSpPr>
        <p:spPr>
          <a:xfrm>
            <a:off x="633240" y="3112920"/>
            <a:ext cx="7939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09560" indent="-1609560">
              <a:lnSpc>
                <a:spcPct val="2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词汇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hina, speak, 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560" indent="-1609560">
              <a:lnSpc>
                <a:spcPct val="2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句式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is is a map of the worl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560" indent="-1609560">
              <a:lnSpc>
                <a:spcPct val="2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at is the capital city of Chi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i M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560" indent="-1609560">
              <a:lnSpc>
                <a:spcPct val="2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矩形 4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692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693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Picture 16" descr="꽃"/>
          <p:cNvPicPr/>
          <p:nvPr/>
        </p:nvPicPr>
        <p:blipFill>
          <a:blip r:embed="rId3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695" name="矩形 3"/>
          <p:cNvSpPr/>
          <p:nvPr/>
        </p:nvSpPr>
        <p:spPr>
          <a:xfrm>
            <a:off x="5582160" y="655308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6" name="矩形 12" descr=""/>
          <p:cNvPicPr/>
          <p:nvPr/>
        </p:nvPicPr>
        <p:blipFill>
          <a:blip r:embed="rId4"/>
          <a:stretch/>
        </p:blipFill>
        <p:spPr>
          <a:xfrm>
            <a:off x="1928880" y="1328760"/>
            <a:ext cx="5394240" cy="15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文本框 2"/>
          <p:cNvSpPr/>
          <p:nvPr/>
        </p:nvSpPr>
        <p:spPr>
          <a:xfrm>
            <a:off x="-1898640" y="192564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12" descr="C:\Users\Administrator\Desktop\枫叶副本.gif"/>
          <p:cNvPicPr/>
          <p:nvPr/>
        </p:nvPicPr>
        <p:blipFill>
          <a:blip r:embed="rId1"/>
          <a:stretch/>
        </p:blipFill>
        <p:spPr>
          <a:xfrm>
            <a:off x="8726400" y="6380280"/>
            <a:ext cx="439920" cy="420480"/>
          </a:xfrm>
          <a:prstGeom prst="rect">
            <a:avLst/>
          </a:prstGeom>
          <a:ln w="0">
            <a:noFill/>
          </a:ln>
        </p:spPr>
      </p:pic>
      <p:sp>
        <p:nvSpPr>
          <p:cNvPr id="554" name="TextBox 1"/>
          <p:cNvSpPr/>
          <p:nvPr/>
        </p:nvSpPr>
        <p:spPr>
          <a:xfrm>
            <a:off x="1430280" y="4680000"/>
            <a:ext cx="705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ich country do these pictures belong t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Picture 12" descr="E:\QQ文件\小学点拨课件副本.gif"/>
          <p:cNvPicPr/>
          <p:nvPr/>
        </p:nvPicPr>
        <p:blipFill>
          <a:blip r:embed="rId2"/>
          <a:stretch/>
        </p:blipFill>
        <p:spPr>
          <a:xfrm>
            <a:off x="3411360" y="190440"/>
            <a:ext cx="2724480" cy="714600"/>
          </a:xfrm>
          <a:prstGeom prst="rect">
            <a:avLst/>
          </a:prstGeom>
          <a:ln w="0">
            <a:noFill/>
          </a:ln>
        </p:spPr>
      </p:pic>
      <p:pic>
        <p:nvPicPr>
          <p:cNvPr id="556" name="图片 2" descr=""/>
          <p:cNvPicPr/>
          <p:nvPr/>
        </p:nvPicPr>
        <p:blipFill>
          <a:blip r:embed="rId3"/>
          <a:stretch/>
        </p:blipFill>
        <p:spPr>
          <a:xfrm>
            <a:off x="4902120" y="1954080"/>
            <a:ext cx="3730680" cy="227520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14" descr=""/>
          <p:cNvPicPr/>
          <p:nvPr/>
        </p:nvPicPr>
        <p:blipFill>
          <a:blip r:embed="rId4"/>
          <a:stretch/>
        </p:blipFill>
        <p:spPr>
          <a:xfrm>
            <a:off x="981000" y="1925640"/>
            <a:ext cx="3792600" cy="240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文本框 25" descr=""/>
          <p:cNvPicPr/>
          <p:nvPr/>
        </p:nvPicPr>
        <p:blipFill>
          <a:blip r:embed="rId1"/>
          <a:stretch/>
        </p:blipFill>
        <p:spPr>
          <a:xfrm>
            <a:off x="2451240" y="198360"/>
            <a:ext cx="4897440" cy="716040"/>
          </a:xfrm>
          <a:prstGeom prst="rect">
            <a:avLst/>
          </a:prstGeom>
          <a:ln w="0">
            <a:noFill/>
          </a:ln>
        </p:spPr>
      </p:pic>
      <p:sp>
        <p:nvSpPr>
          <p:cNvPr id="559" name="矩形 17"/>
          <p:cNvSpPr/>
          <p:nvPr/>
        </p:nvSpPr>
        <p:spPr>
          <a:xfrm>
            <a:off x="2295360" y="4394160"/>
            <a:ext cx="2406960" cy="1619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矩形 1"/>
          <p:cNvSpPr/>
          <p:nvPr/>
        </p:nvSpPr>
        <p:spPr>
          <a:xfrm>
            <a:off x="677880" y="1193760"/>
            <a:ext cx="804852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85680" indent="-985680">
              <a:lnSpc>
                <a:spcPct val="150000"/>
              </a:lnSpc>
              <a:tabLst>
                <a:tab algn="l" pos="0"/>
                <a:tab algn="l" pos="9856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  <a:tab algn="l" pos="9367920"/>
                <a:tab algn="l" pos="9813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s. Zhang: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ok, class! This is a map of the wor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50000"/>
              </a:lnSpc>
              <a:tabLst>
                <a:tab algn="l" pos="0"/>
                <a:tab algn="l" pos="9856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  <a:tab algn="l" pos="9367920"/>
                <a:tab algn="l" pos="9813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s. Zhang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is a map of  China. We live in China . We speak in Chine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50000"/>
              </a:lnSpc>
              <a:tabLst>
                <a:tab algn="l" pos="0"/>
                <a:tab algn="l" pos="9856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  <a:tab algn="l" pos="9367920"/>
                <a:tab algn="l" pos="9813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s. Zhang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 the capital city of China ,Li M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50000"/>
              </a:lnSpc>
              <a:tabLst>
                <a:tab algn="l" pos="0"/>
                <a:tab algn="l" pos="9856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  <a:tab algn="l" pos="9367920"/>
                <a:tab algn="l" pos="9813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 Ming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ijing is the capital of Chin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50000"/>
              </a:lnSpc>
              <a:tabLst>
                <a:tab algn="l" pos="0"/>
                <a:tab algn="l" pos="9856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  <a:tab algn="l" pos="9367920"/>
                <a:tab algn="l" pos="9813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s. Zhang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’s thi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50000"/>
              </a:lnSpc>
              <a:tabLst>
                <a:tab algn="l" pos="0"/>
                <a:tab algn="l" pos="9856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  <a:tab algn="l" pos="9367920"/>
                <a:tab algn="l" pos="9813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 Ming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is the flag of China .It is red . It has five yellow st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14" descr=""/>
          <p:cNvPicPr/>
          <p:nvPr/>
        </p:nvPicPr>
        <p:blipFill>
          <a:blip r:embed="rId2"/>
          <a:stretch/>
        </p:blipFill>
        <p:spPr>
          <a:xfrm>
            <a:off x="2432160" y="4491000"/>
            <a:ext cx="2133360" cy="142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563" name="文本框 17"/>
          <p:cNvSpPr/>
          <p:nvPr/>
        </p:nvSpPr>
        <p:spPr>
          <a:xfrm>
            <a:off x="2976840" y="1501920"/>
            <a:ext cx="372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This is a map of the worl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这是一张世界地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圆角矩形 18"/>
          <p:cNvSpPr/>
          <p:nvPr/>
        </p:nvSpPr>
        <p:spPr>
          <a:xfrm>
            <a:off x="1041480" y="1730520"/>
            <a:ext cx="177804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文本框 19"/>
          <p:cNvSpPr/>
          <p:nvPr/>
        </p:nvSpPr>
        <p:spPr>
          <a:xfrm>
            <a:off x="1300320" y="1711440"/>
            <a:ext cx="17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图片 9" descr="book.gif"/>
          <p:cNvPicPr/>
          <p:nvPr/>
        </p:nvPicPr>
        <p:blipFill>
          <a:blip r:embed="rId2"/>
          <a:stretch/>
        </p:blipFill>
        <p:spPr>
          <a:xfrm>
            <a:off x="239760" y="1616040"/>
            <a:ext cx="1087560" cy="666720"/>
          </a:xfrm>
          <a:prstGeom prst="rect">
            <a:avLst/>
          </a:prstGeom>
          <a:ln w="0">
            <a:noFill/>
          </a:ln>
        </p:spPr>
      </p:pic>
      <p:sp>
        <p:nvSpPr>
          <p:cNvPr id="569" name="矩形 1"/>
          <p:cNvSpPr/>
          <p:nvPr/>
        </p:nvSpPr>
        <p:spPr>
          <a:xfrm>
            <a:off x="2343240" y="4222800"/>
            <a:ext cx="5816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is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用于指离说话人较近的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is is an English book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这是一本英语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矩形 25"/>
          <p:cNvSpPr/>
          <p:nvPr/>
        </p:nvSpPr>
        <p:spPr>
          <a:xfrm>
            <a:off x="1195560" y="3121200"/>
            <a:ext cx="753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This is a/an/the+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名词（词组）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+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其他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这是用于描述“这是某物”的句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矩形 2"/>
          <p:cNvSpPr/>
          <p:nvPr/>
        </p:nvSpPr>
        <p:spPr>
          <a:xfrm>
            <a:off x="1569600" y="4464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用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矩形 3"/>
          <p:cNvSpPr/>
          <p:nvPr/>
        </p:nvSpPr>
        <p:spPr>
          <a:xfrm>
            <a:off x="1599840" y="5211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574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矩形 1"/>
          <p:cNvSpPr/>
          <p:nvPr/>
        </p:nvSpPr>
        <p:spPr>
          <a:xfrm>
            <a:off x="2301840" y="2406600"/>
            <a:ext cx="6651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字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发的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/æ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ap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帽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 map of Beijing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张北京地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is is a map of Shanghai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这是一张上海地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矩形 25"/>
          <p:cNvSpPr/>
          <p:nvPr/>
        </p:nvSpPr>
        <p:spPr>
          <a:xfrm>
            <a:off x="1398600" y="1766880"/>
            <a:ext cx="38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ap /mæp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n.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地图［四会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矩形 2"/>
          <p:cNvSpPr/>
          <p:nvPr/>
        </p:nvSpPr>
        <p:spPr>
          <a:xfrm>
            <a:off x="1549080" y="48448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矩形 3"/>
          <p:cNvSpPr/>
          <p:nvPr/>
        </p:nvSpPr>
        <p:spPr>
          <a:xfrm>
            <a:off x="1549080" y="41101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短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矩形 4"/>
          <p:cNvSpPr/>
          <p:nvPr/>
        </p:nvSpPr>
        <p:spPr>
          <a:xfrm>
            <a:off x="1706040" y="33973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黑体"/>
              </a:rPr>
              <a:t>形近词记忆法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矩形 5"/>
          <p:cNvSpPr/>
          <p:nvPr/>
        </p:nvSpPr>
        <p:spPr>
          <a:xfrm>
            <a:off x="1564920" y="26701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发音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583" name="文本框 17"/>
          <p:cNvSpPr/>
          <p:nvPr/>
        </p:nvSpPr>
        <p:spPr>
          <a:xfrm>
            <a:off x="3295800" y="1568520"/>
            <a:ext cx="360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hina / tʃaɪnə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n.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中国［四会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圆角矩形 18"/>
          <p:cNvSpPr/>
          <p:nvPr/>
        </p:nvSpPr>
        <p:spPr>
          <a:xfrm>
            <a:off x="1117440" y="1685880"/>
            <a:ext cx="177804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文本框 19"/>
          <p:cNvSpPr/>
          <p:nvPr/>
        </p:nvSpPr>
        <p:spPr>
          <a:xfrm>
            <a:off x="1398600" y="1666800"/>
            <a:ext cx="17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8"/>
          <p:cNvSpPr/>
          <p:nvPr/>
        </p:nvSpPr>
        <p:spPr>
          <a:xfrm>
            <a:off x="2411280" y="3065400"/>
            <a:ext cx="488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love China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爱中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图片 9" descr="book.gif"/>
          <p:cNvPicPr/>
          <p:nvPr/>
        </p:nvPicPr>
        <p:blipFill>
          <a:blip r:embed="rId2"/>
          <a:stretch/>
        </p:blipFill>
        <p:spPr>
          <a:xfrm>
            <a:off x="345960" y="1608120"/>
            <a:ext cx="1087560" cy="666720"/>
          </a:xfrm>
          <a:prstGeom prst="rect">
            <a:avLst/>
          </a:prstGeom>
          <a:ln w="0">
            <a:noFill/>
          </a:ln>
        </p:spPr>
      </p:pic>
      <p:sp>
        <p:nvSpPr>
          <p:cNvPr id="590" name="矩形 1"/>
          <p:cNvSpPr/>
          <p:nvPr/>
        </p:nvSpPr>
        <p:spPr>
          <a:xfrm>
            <a:off x="1602720" y="3294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矩形 3"/>
          <p:cNvSpPr/>
          <p:nvPr/>
        </p:nvSpPr>
        <p:spPr>
          <a:xfrm>
            <a:off x="1598040" y="41482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短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8"/>
          <p:cNvSpPr/>
          <p:nvPr/>
        </p:nvSpPr>
        <p:spPr>
          <a:xfrm>
            <a:off x="2416320" y="3884760"/>
            <a:ext cx="536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 map of China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张中国地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Box 8"/>
          <p:cNvSpPr/>
          <p:nvPr/>
        </p:nvSpPr>
        <p:spPr>
          <a:xfrm>
            <a:off x="2371680" y="2262240"/>
            <a:ext cx="296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字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发的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/aɪ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矩形 1"/>
          <p:cNvSpPr/>
          <p:nvPr/>
        </p:nvSpPr>
        <p:spPr>
          <a:xfrm>
            <a:off x="1604520" y="24908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发音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矩形 3"/>
          <p:cNvSpPr/>
          <p:nvPr/>
        </p:nvSpPr>
        <p:spPr>
          <a:xfrm>
            <a:off x="1739880" y="49546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词形变化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Box 8"/>
          <p:cNvSpPr/>
          <p:nvPr/>
        </p:nvSpPr>
        <p:spPr>
          <a:xfrm>
            <a:off x="3060720" y="4692600"/>
            <a:ext cx="536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hines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dj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中国的；中国人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598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图片 18" descr=""/>
          <p:cNvPicPr/>
          <p:nvPr/>
        </p:nvPicPr>
        <p:blipFill>
          <a:blip r:embed="rId2"/>
          <a:stretch/>
        </p:blipFill>
        <p:spPr>
          <a:xfrm>
            <a:off x="676440" y="2201760"/>
            <a:ext cx="323640" cy="368280"/>
          </a:xfrm>
          <a:prstGeom prst="rect">
            <a:avLst/>
          </a:prstGeom>
          <a:ln w="0">
            <a:noFill/>
          </a:ln>
        </p:spPr>
      </p:pic>
      <p:sp>
        <p:nvSpPr>
          <p:cNvPr id="601" name="矩形 16"/>
          <p:cNvSpPr/>
          <p:nvPr/>
        </p:nvSpPr>
        <p:spPr>
          <a:xfrm>
            <a:off x="1144440" y="206208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拓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矩形 2"/>
          <p:cNvSpPr/>
          <p:nvPr/>
        </p:nvSpPr>
        <p:spPr>
          <a:xfrm>
            <a:off x="1959120" y="1920960"/>
            <a:ext cx="695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中国”的英文全称是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eople’s Republic of Ch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缩写形式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矩形 1"/>
          <p:cNvSpPr/>
          <p:nvPr/>
        </p:nvSpPr>
        <p:spPr>
          <a:xfrm>
            <a:off x="748440" y="40435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其他意义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矩形 2"/>
          <p:cNvSpPr/>
          <p:nvPr/>
        </p:nvSpPr>
        <p:spPr>
          <a:xfrm>
            <a:off x="2165760" y="3857760"/>
            <a:ext cx="17294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hin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瓷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5" name="组 27"/>
          <p:cNvGrpSpPr/>
          <p:nvPr/>
        </p:nvGrpSpPr>
        <p:grpSpPr>
          <a:xfrm>
            <a:off x="-369720" y="4924440"/>
            <a:ext cx="1660320" cy="1890720"/>
            <a:chOff x="-369720" y="4924440"/>
            <a:chExt cx="1660320" cy="1890720"/>
          </a:xfrm>
        </p:grpSpPr>
        <p:pic>
          <p:nvPicPr>
            <p:cNvPr id="606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7560" y="4924440"/>
              <a:ext cx="505080" cy="174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7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9720" y="5447520"/>
              <a:ext cx="1660320" cy="1367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08" name="图片 6" descr=""/>
          <p:cNvPicPr/>
          <p:nvPr/>
        </p:nvPicPr>
        <p:blipFill>
          <a:blip r:embed="rId3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609" name="文本框 17"/>
          <p:cNvSpPr/>
          <p:nvPr/>
        </p:nvSpPr>
        <p:spPr>
          <a:xfrm>
            <a:off x="2692440" y="1571760"/>
            <a:ext cx="553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speak /spiːk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v.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讲，说；谈话［四会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圆角矩形 18"/>
          <p:cNvSpPr/>
          <p:nvPr/>
        </p:nvSpPr>
        <p:spPr>
          <a:xfrm>
            <a:off x="847800" y="1712880"/>
            <a:ext cx="177804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文本框 19"/>
          <p:cNvSpPr/>
          <p:nvPr/>
        </p:nvSpPr>
        <p:spPr>
          <a:xfrm>
            <a:off x="1158840" y="168264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Box 8"/>
          <p:cNvSpPr/>
          <p:nvPr/>
        </p:nvSpPr>
        <p:spPr>
          <a:xfrm>
            <a:off x="2257560" y="2860560"/>
            <a:ext cx="511164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an you speak Englis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你会说英语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图片 9" descr="book.gif"/>
          <p:cNvPicPr/>
          <p:nvPr/>
        </p:nvPicPr>
        <p:blipFill>
          <a:blip r:embed="rId4"/>
          <a:stretch/>
        </p:blipFill>
        <p:spPr>
          <a:xfrm>
            <a:off x="127080" y="1600200"/>
            <a:ext cx="1087200" cy="666720"/>
          </a:xfrm>
          <a:prstGeom prst="rect">
            <a:avLst/>
          </a:prstGeom>
          <a:ln w="0">
            <a:noFill/>
          </a:ln>
        </p:spPr>
      </p:pic>
      <p:sp>
        <p:nvSpPr>
          <p:cNvPr id="616" name="矩形 2"/>
          <p:cNvSpPr/>
          <p:nvPr/>
        </p:nvSpPr>
        <p:spPr>
          <a:xfrm>
            <a:off x="1449000" y="30495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Box 8"/>
          <p:cNvSpPr/>
          <p:nvPr/>
        </p:nvSpPr>
        <p:spPr>
          <a:xfrm>
            <a:off x="2085840" y="4653000"/>
            <a:ext cx="6742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speak+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语言类名词，中间不加任何修饰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Picture 23" descr=""/>
          <p:cNvPicPr/>
          <p:nvPr/>
        </p:nvPicPr>
        <p:blipFill>
          <a:blip r:embed="rId5"/>
          <a:stretch/>
        </p:blipFill>
        <p:spPr>
          <a:xfrm>
            <a:off x="365040" y="3578400"/>
            <a:ext cx="1805040" cy="1511280"/>
          </a:xfrm>
          <a:prstGeom prst="rect">
            <a:avLst/>
          </a:prstGeom>
          <a:ln w="0">
            <a:noFill/>
          </a:ln>
        </p:spPr>
      </p:pic>
      <p:sp>
        <p:nvSpPr>
          <p:cNvPr id="619" name="矩形 1"/>
          <p:cNvSpPr/>
          <p:nvPr/>
        </p:nvSpPr>
        <p:spPr>
          <a:xfrm>
            <a:off x="2286000" y="5551560"/>
            <a:ext cx="692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peak → speaker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演讲者） →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pok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过去式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矩形 22"/>
          <p:cNvSpPr/>
          <p:nvPr/>
        </p:nvSpPr>
        <p:spPr>
          <a:xfrm>
            <a:off x="767160" y="55688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词形变化 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Box 8"/>
          <p:cNvSpPr/>
          <p:nvPr/>
        </p:nvSpPr>
        <p:spPr>
          <a:xfrm>
            <a:off x="2259000" y="2181240"/>
            <a:ext cx="51116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字母组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a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发的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/iː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矩形 2"/>
          <p:cNvSpPr/>
          <p:nvPr/>
        </p:nvSpPr>
        <p:spPr>
          <a:xfrm>
            <a:off x="1450440" y="23702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624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6" name=""/>
          <p:cNvGraphicFramePr/>
          <p:nvPr/>
        </p:nvGraphicFramePr>
        <p:xfrm>
          <a:off x="1019160" y="1801800"/>
          <a:ext cx="7934400" cy="4572000"/>
        </p:xfrm>
        <a:graphic>
          <a:graphicData uri="http://schemas.openxmlformats.org/drawingml/2006/table">
            <a:tbl>
              <a:tblPr/>
              <a:tblGrid>
                <a:gridCol w="1000080"/>
                <a:gridCol w="3862440"/>
                <a:gridCol w="3071880"/>
              </a:tblGrid>
              <a:tr h="549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词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用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例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spea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“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说某种语言”，后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语言类名词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I can speak Frenc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我能说法语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s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“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说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……”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，强调说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内容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What do you say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你说什么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tal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“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谈话”，强调两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或多人对话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an I talk with you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我能和你谈谈吗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te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“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告诉”，强调一方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诉另一方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He told me the new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他告诉了我这条消息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7" name="TextBox 2"/>
          <p:cNvSpPr/>
          <p:nvPr/>
        </p:nvSpPr>
        <p:spPr>
          <a:xfrm>
            <a:off x="961920" y="1174680"/>
            <a:ext cx="24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辨析：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［难点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5T00:46:43Z</dcterms:created>
  <dc:creator>apple apple</dc:creator>
  <dc:description/>
  <dc:language>en-US</dc:language>
  <cp:lastModifiedBy>相忘于江湖</cp:lastModifiedBy>
  <dcterms:modified xsi:type="dcterms:W3CDTF">2017-12-06T13:14:07Z</dcterms:modified>
  <cp:revision>63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023</vt:lpwstr>
  </property>
</Properties>
</file>